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771-B387-44D6-8569-18A79C91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E92-57DB-464F-8523-5E4CF5B3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648-413F-455F-A222-4AF266C8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A01-682A-4EEF-B661-0276D02F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2CC-AE14-4859-A68A-6D131675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884-487C-43E8-83DE-E21E9DE0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41F-188C-4682-A0E6-85798591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3FA-8F39-4F7E-9A11-34EB817A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037-B67B-46F3-AFF7-4FEA4790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D06-8ECC-466C-A624-0BE96E45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74C-A348-4C43-A86A-573CDD59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450-7B02-4F10-9701-4EFED0C4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14EA-3C2D-4276-A857-54AC1DD0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hyperlink" Target="http://www.gusary.kulichki.com/gusary/istoriya/images/bolt_davydov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ipopolam.narod.ru/video/disks/screenshot/metel/met-00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G:\..\..\Downloads\&#1087;&#1088;&#1077;&#1079;&#1077;&#1085;&#1090;&#1072;&#1094;&#1080;&#1080; &#1091;&#1088;&#1086;&#1082;&#1080;\&#1052;&#1072;&#1088;&#1072;&#1085;&#1094;&#1084;&#1072;&#1085; &#1042;.doc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a-class.nm.ru/gallery/suzdal2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268280"/>
            <a:ext cx="7488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ложению - описанию ме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по пове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С. Пушкина "Метель"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340000" y="188640"/>
            <a:ext cx="518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Метель закружила героев, «подменила» женихов и переплела судьбы трёх героев. Человек оказался игрушкой в руках неведомых сил природы. Метель и есть воплощение тайных сил, руководящих нашей жизнью. Они могут жестоко подшутить над человеком, а могут неожиданно принести счастье и удачу. Судьба снова подшутила над героями, но на этот раз по-добром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 "/>
          <p:cNvPicPr/>
          <p:nvPr/>
        </p:nvPicPr>
        <p:blipFill>
          <a:blip r:embed="rId2"/>
          <a:stretch/>
        </p:blipFill>
        <p:spPr>
          <a:xfrm>
            <a:off x="7380360" y="189000"/>
            <a:ext cx="1584360" cy="2303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78 из 39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000680"/>
            <a:ext cx="511164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1944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«Метель» - это маленькая поэма о риске, гусарской браваде, лихости, когда ради пустой прихоти не жаль поставить на кону всё будущее счастье. Это поэма о милости его величества Случая, который благоволит смельчакам и безумцам, играющим в рулетку с самой судьбой. Нашим героям выпало редкое счастье. Всё хорошо, что хорошо кончается. Дай бог, чтобы и в вашей жизни всё хорошо заканчивал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Sylfaen"/>
              </a:rPr>
              <a:t>А верить в это 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Sylfaen"/>
              </a:rPr>
              <a:t>   </a:t>
            </a:r>
            <a:r>
              <a:rPr b="0" lang="en-US" sz="3200" spc="-1" strike="noStrike">
                <a:solidFill>
                  <a:srgbClr val="009999"/>
                </a:solidFill>
                <a:latin typeface="Sylfaen"/>
              </a:rPr>
              <a:t>помогут наши добрые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Sylfaen"/>
              </a:rPr>
              <a:t>   </a:t>
            </a:r>
            <a:r>
              <a:rPr b="0" lang="en-US" sz="3200" spc="-1" strike="noStrike">
                <a:solidFill>
                  <a:srgbClr val="009999"/>
                </a:solidFill>
                <a:latin typeface="Sylfaen"/>
              </a:rPr>
              <a:t>жизнелюбивые спутник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Sylfaen"/>
              </a:rPr>
              <a:t>   </a:t>
            </a:r>
            <a:r>
              <a:rPr b="0" lang="en-US" sz="3200" spc="-1" strike="noStrike">
                <a:solidFill>
                  <a:srgbClr val="009999"/>
                </a:solidFill>
                <a:latin typeface="Sylfaen"/>
              </a:rPr>
              <a:t>пушкинские кни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3313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96720" y="-353880"/>
            <a:ext cx="9864720" cy="745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88000" y="189000"/>
            <a:ext cx="403848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entaur"/>
              </a:rPr>
              <a:t>«Метель» - это несколько страниц рассказа о драматических судьбах русских людей, в чьи жизни ворвались любовь, стихия природы и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64 из 1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3676680" cy="554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5157720"/>
            <a:ext cx="1995480" cy="863640"/>
          </a:xfrm>
          <a:prstGeom prst="wedgeRectCallout">
            <a:avLst>
              <a:gd name="adj1" fmla="val 7041"/>
              <a:gd name="adj2" fmla="val 1097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ранцман о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«Повестях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к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00720" y="0"/>
            <a:ext cx="46432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comic"/>
              </a:rPr>
              <a:t>« Марья Гавриловна стройная, бледная и семнадцатилетняя девица считалась богатой невестою… была воспитана на французских романах и следственно была влюблена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2108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42847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omic"/>
              </a:rPr>
              <a:t>« </a:t>
            </a:r>
            <a:r>
              <a:rPr b="1" i="1" lang="ru-RU" sz="3200" spc="-1" strike="noStrike">
                <a:solidFill>
                  <a:srgbClr val="000000"/>
                </a:solidFill>
                <a:latin typeface="comic"/>
              </a:rPr>
              <a:t>Предмет, избранный ею, был бедный армейский прапорщик … пылал равною страстию. Родители (Марии Гавриловны), заметя их взаимную склонность, запретили дочери о нём и думат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54968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427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lackadder ITC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Blackadder ITC"/>
              </a:rPr>
              <a:t>« </a:t>
            </a:r>
            <a:r>
              <a:rPr b="1" i="1" lang="ru-RU" sz="3200" spc="-1" strike="noStrike">
                <a:solidFill>
                  <a:srgbClr val="000000"/>
                </a:solidFill>
                <a:latin typeface="Blackadder ITC"/>
              </a:rPr>
              <a:t>Целый день Владимир был в разъезде… Уже давно смеркалось.. Но едва Владимир выехал за околицу в поле, как поднялся ветер и сделалась такая метель, что он ничего не взвиде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lackadder ITC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lackadder ITC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/>
          <p:cNvPicPr/>
          <p:nvPr/>
        </p:nvPicPr>
        <p:blipFill>
          <a:blip r:embed="rId2"/>
          <a:stretch/>
        </p:blipFill>
        <p:spPr>
          <a:xfrm>
            <a:off x="4427640" y="260280"/>
            <a:ext cx="439236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0384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Blackadder ITC"/>
              </a:rPr>
              <a:t>«Владимир с ужасом увидел, что он заехал в незнакомый лес. Отчаяние завладело им…Владимир схватил себя за волосы и остался недвижим как человек, приговорённый к смерти… Церковь была заперта. Какое известие ожидало его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6 из 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0"/>
            <a:ext cx="4643280" cy="595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70680" y="5942160"/>
            <a:ext cx="36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Церковь, в которой снима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цена венч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entaur"/>
              </a:rPr>
              <a:t>Роль пейз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ушкин описывает мет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синтаксические конструкции используются автор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ва роль пейзажа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Создаются яркие образы природы и действи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Используется обычная конструкция фр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Пейзаж является элементом сю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262480" y="4220640"/>
            <a:ext cx="3881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Centaur"/>
              </a:rPr>
              <a:t>Запутанные отношения героев выясняются только в конце. Чего достигает Пушкин таким построением пове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492280"/>
            <a:ext cx="863640" cy="486000"/>
          </a:xfrm>
          <a:prstGeom prst="rightArrow">
            <a:avLst>
              <a:gd name="adj1" fmla="val 50000"/>
              <a:gd name="adj2" fmla="val 4442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484280"/>
            <a:ext cx="1656000" cy="23050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в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и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1484280"/>
            <a:ext cx="1657440" cy="23050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в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бе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2492280"/>
            <a:ext cx="718920" cy="486000"/>
          </a:xfrm>
          <a:prstGeom prst="rightArrow">
            <a:avLst>
              <a:gd name="adj1" fmla="val 50000"/>
              <a:gd name="adj2" fmla="val 3698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1484280"/>
            <a:ext cx="1656000" cy="23050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уж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и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2421000"/>
            <a:ext cx="649080" cy="503280"/>
          </a:xfrm>
          <a:prstGeom prst="rightArrow">
            <a:avLst>
              <a:gd name="adj1" fmla="val 50000"/>
              <a:gd name="adj2" fmla="val 3224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1484280"/>
            <a:ext cx="1656000" cy="230652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ш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ъ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и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мию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84640"/>
            <a:ext cx="755640" cy="505080"/>
          </a:xfrm>
          <a:prstGeom prst="rightArrow">
            <a:avLst>
              <a:gd name="adj1" fmla="val 57509"/>
              <a:gd name="adj2" fmla="val 2553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4221000"/>
            <a:ext cx="1728720" cy="230364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й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ими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5084640"/>
            <a:ext cx="719280" cy="574920"/>
          </a:xfrm>
          <a:prstGeom prst="rightArrow">
            <a:avLst>
              <a:gd name="adj1" fmla="val 50000"/>
              <a:gd name="adj2" fmla="val 312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4221000"/>
            <a:ext cx="1728720" cy="230364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м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ч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0:09:58Z</dcterms:created>
  <dc:creator>BLACKGIRL</dc:creator>
  <dc:description/>
  <dc:language>en-US</dc:language>
  <cp:lastModifiedBy>Питонище</cp:lastModifiedBy>
  <dcterms:modified xsi:type="dcterms:W3CDTF">2010-05-09T16:49:53Z</dcterms:modified>
  <cp:revision>3</cp:revision>
  <dc:subject/>
  <dc:title>Слайд 1</dc:title>
</cp:coreProperties>
</file>